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398520" y="860400"/>
            <a:ext cx="8345520" cy="589932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71280" y="380880"/>
            <a:ext cx="8999640" cy="38592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ALIZA I PLANOWANIE ROZWOJU SYSTEMU SZKÓ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zmieszczenie uczniów liceów na tle uczniów innych szkó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73080" y="380880"/>
            <a:ext cx="8997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3080" y="762120"/>
            <a:ext cx="8997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0840" y="1066680"/>
            <a:ext cx="7657920" cy="5415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1280" y="380880"/>
            <a:ext cx="8999640" cy="3859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ALIZA STRUKTURY DEMOGRAFICZNO-PRZESTRZENNEJ ORAZ MIGRACJI MIESZKAŃCÓW WROCŁAW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zmieszczenie grup wiekowych: grupy wieku przedprodukcyjn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080" y="380880"/>
            <a:ext cx="8997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0" y="762120"/>
            <a:ext cx="8997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11905" t="8417" r="19049" b="10100"/>
          <a:stretch/>
        </p:blipFill>
        <p:spPr>
          <a:xfrm>
            <a:off x="7313760" y="838080"/>
            <a:ext cx="1830240" cy="3057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177040" y="3159000"/>
            <a:ext cx="71640" cy="576360"/>
          </a:xfrm>
          <a:prstGeom prst="upDownArrow">
            <a:avLst>
              <a:gd name="adj1" fmla="val 50000"/>
              <a:gd name="adj2" fmla="val 1601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08:34:23Z</dcterms:created>
  <dc:creator>KS</dc:creator>
  <dc:description/>
  <dc:language>en-US</dc:language>
  <cp:lastModifiedBy>umanza03</cp:lastModifiedBy>
  <dcterms:modified xsi:type="dcterms:W3CDTF">2012-09-24T11:56:01Z</dcterms:modified>
  <cp:revision>531</cp:revision>
  <dc:subject/>
  <dc:title>Slajd 1</dc:title>
</cp:coreProperties>
</file>